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47949"/>
        <c:axId val="98113490"/>
      </c:barChart>
      <c:catAx>
        <c:axId val="62647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13490"/>
        <c:crosses val="autoZero"/>
        <c:auto val="1"/>
        <c:lblAlgn val="ctr"/>
        <c:lblOffset val="100"/>
        <c:noMultiLvlLbl val="0"/>
      </c:catAx>
      <c:valAx>
        <c:axId val="98113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47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074B-3D10-482F-A0EF-F6B9F40F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57A-FD0F-43F7-A6C6-AB37A5DC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2357-1CDF-4963-8CCC-5B20C79B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53D-B67A-4A97-A3F5-E70614F6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EA74-4EC7-45E8-A3ED-169DE377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852-F155-4F5E-93A1-CB6542E2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C1A9-E2B3-4263-A8A4-5C43666D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8D6-3552-4B88-97AD-64EEF85F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78B-8783-43D4-A89C-16D749E2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379-8ABF-4E86-A395-649F391F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C91-885E-44DD-B475-4DF25FEA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BE15-C681-4BBE-897C-E663D90E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25AA8-D229-4D55-B219-C7DD43C37A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