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03922"/>
        <c:axId val="83644820"/>
      </c:barChart>
      <c:catAx>
        <c:axId val="87203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44820"/>
        <c:crosses val="autoZero"/>
        <c:auto val="1"/>
        <c:lblAlgn val="ctr"/>
        <c:lblOffset val="100"/>
        <c:noMultiLvlLbl val="0"/>
      </c:catAx>
      <c:valAx>
        <c:axId val="83644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03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247-7F78-4F84-9D46-35CBB93E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9A5-48FE-4288-9D2E-16A3961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EB0-5BC5-4D53-BCD1-A9F2008F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45B-BCBF-4C52-A667-8DA214B0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DAC-EFA8-4F0F-99F7-CA4E931A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29B-67E3-4596-9A70-496F27D4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6A4-EEEE-45DD-97B6-FB52F7D8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F98-651E-449D-88D0-4B69D413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7C0-AF45-4F5B-BB57-F9AC5881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DB7-C4CD-49E7-A0D9-13FDD5D0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315-1E8B-477C-B69A-ED0D44B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4E4-F22F-451B-9B4A-84C8B23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393A7-B3AE-4AF3-88A0-9FF4B56BE4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