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448456"/>
        <c:axId val="47536961"/>
      </c:barChart>
      <c:catAx>
        <c:axId val="56448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36961"/>
        <c:crosses val="autoZero"/>
        <c:auto val="1"/>
        <c:lblAlgn val="ctr"/>
        <c:lblOffset val="100"/>
        <c:noMultiLvlLbl val="0"/>
      </c:catAx>
      <c:valAx>
        <c:axId val="47536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48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CDE1-2D08-418A-AF1A-54945D5C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54B6-D98A-474E-AE8A-FA989D79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1738-EBAB-459E-A4E3-55A3B2C9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4B6A-C5DC-4F91-821D-19D3DB65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6D34-3916-44CB-9802-73028FB0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E03-2B38-45DB-BEB0-7A54671E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79F6-2F16-4047-85B0-1BEA328B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CD9D-F61E-4C0D-97D1-56B8042D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DEA3-23D7-419A-A624-F060DF1A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42E5-3414-4928-9A2A-9E1E05CB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509A-0530-4992-A187-1D83403F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B0AD-80DC-4414-A9EC-94F2EFC7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3C834-4D52-4699-A072-C774B27D68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